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36C-27AE-42BA-BADD-2CEE6AE8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A23-732C-4ABE-A0DF-39FD9333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FBE-CAEE-4A10-8229-F577361C0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6A3-00B7-4576-A6BC-C9B6F6E2E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9591-C22D-4539-BB81-F2BDB043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914-BCD0-43EE-9483-B82F8EAE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547-F65D-48A2-9E61-5444C0A5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7E23-BE25-46A2-A037-54EDB067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DCB-1959-4532-8064-C9C4878B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E68-488D-427A-BA7D-885F1F0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911-D4B9-4243-86D9-91C55244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5CE-9FAA-45FD-A85F-4B3FDE7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3BD-EDF5-49D6-9136-DC447B2BD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ele für he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Find a German speaking city (google Ear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ick a date for your broadc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WETT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 typical weather in that region and at that time of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your PowerPoint with the wea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s of weather, temperature in Celsius,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RVIE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k an ani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a pi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scri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3:55:50Z</dcterms:created>
  <dc:creator>ahart</dc:creator>
  <dc:description/>
  <dc:language>en-US</dc:language>
  <cp:lastModifiedBy>Alissa Hart</cp:lastModifiedBy>
  <dcterms:modified xsi:type="dcterms:W3CDTF">2014-10-27T13:04:08Z</dcterms:modified>
  <cp:revision>5</cp:revision>
  <dc:subject/>
  <dc:title>Ziele für heute</dc:title>
</cp:coreProperties>
</file>